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821-6119-4C9D-AAE5-086A9D71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765-1E80-46D7-A22A-3996A674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125-711A-42F1-99F4-BCDEAC76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631-6A1E-4903-A999-B4873284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FAE-6FA4-4081-8675-E7B30587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FF5-6BF6-4B68-9AD4-C50E2AF7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E35-F9BA-41DB-9073-7BA149B9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3CD-22FD-468A-B3D4-39412D89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C8B-4CC8-48AA-B109-5A7674AD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715-9CF5-4D9A-B641-4BD602AA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44D-6DB5-4AF3-A384-96443CA0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5FF-6608-4978-A7F6-4C00B312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D3FE-7BD5-45AD-B238-BBE1E8DB7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3749"/>
            </a:gs>
            <a:gs pos="100000">
              <a:srgbClr val="dd82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</a:rPr>
              <a:t>It’s Contagiou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0155" t="22917" r="74222" b="15627"/>
          <a:stretch/>
        </p:blipFill>
        <p:spPr>
          <a:xfrm>
            <a:off x="228600" y="1295280"/>
            <a:ext cx="2666880" cy="7620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8120" y="7010280"/>
            <a:ext cx="3504960" cy="191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24080" y="1447920"/>
            <a:ext cx="3505320" cy="53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UZE slenderize®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 comes in six invigorating infuzion flav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lueberry Raspber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Tropical P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Tangerine Grapefr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ragonfruit L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ranberry Raspber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Strawberry Me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ess than 10 calories per serving, and 4 crucial vitamins and minerals in every sip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-Consider yourself slenderized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UZE slenderize® It’s Contagiou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3:16:58Z</dcterms:created>
  <dc:creator>WPS</dc:creator>
  <dc:description/>
  <dc:language>en-US</dc:language>
  <cp:lastModifiedBy>WPS</cp:lastModifiedBy>
  <dcterms:modified xsi:type="dcterms:W3CDTF">2008-06-02T12:57:41Z</dcterms:modified>
  <cp:revision>7</cp:revision>
  <dc:subject/>
  <dc:title>It’s Contagious!</dc:title>
</cp:coreProperties>
</file>